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CF8-5976-4BDC-8B17-DD74D83B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4B3-8C6C-4FB8-B3E5-7191702F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4DD-7E1D-475F-A28A-5DC17AF6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A6C-EA5B-48B6-B847-83FEE55A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5041-3E27-48CF-9F7A-8FC22355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6A67-04A0-42A3-B516-70A44099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080F-EBAB-4A76-A60B-50714BDB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C32-C6FC-468E-9308-147AE2ED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274B-3954-48EF-A554-62B6379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9A6C-C3DB-4B31-9464-A5F73451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B668-CDDB-49FB-A6D6-1F802A7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39C-94D0-4755-B087-94DBFC9B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9911-DE1C-4485-9A20-5E0DC8E5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8918-D433-44DB-A088-24F90589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65C-631F-43A5-91AE-8016669A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4106-D8B1-430D-A8C8-54E9F6BD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0DAC-1644-4054-A917-9D3D7B11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8BA-61F9-4058-B077-33563884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DA8-7447-43A1-86FE-96B0DC75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DF6-8F40-4A6B-B73E-F024CBC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FA2-7BDE-492E-AFDF-B1CC4983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0DE-0A06-4580-B5FD-E8BA437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31A-5A64-42E8-99A7-7BD1E15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AFE-3360-46F0-9DEE-FB88781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779-E5EA-4060-B366-D9F9D536D2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7BF1-ED0B-4C4A-8857-9BC979ED1E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merica Needs Its Nerds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99840" y="4876560"/>
            <a:ext cx="70102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ce for the Ess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7913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ize the passage’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ssag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at least 3 methods you see being used to communicate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2510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ody Paragraph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one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eac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ou stated in the intro. (Total of 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IMS: state the method and its eff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: give examples from the tex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RRANTS: explain HOW the method creates the eff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E: d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t least TW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lusters per paragrap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725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the overall effect of the methods you discusse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which method was the most effective and wh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77120" y="76320"/>
            <a:ext cx="24667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SIBLE AREAS OF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HODS OF ORGAN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ust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s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ari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386400" y="2590920"/>
            <a:ext cx="22719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SIBLE AREAS OF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HETORICAL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o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hetorical Ques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HETORICAL SIT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grap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n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57920" y="3581280"/>
            <a:ext cx="3019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LYSIS ESSAY CLUS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IM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s method or technique &amp;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examples from the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RRANT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lains HOW the technique creates the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86400" y="5051520"/>
            <a:ext cx="25369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 possible effects are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create empathy/sympat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give empha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make abstract concre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clari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create t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build up to a clima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21:24:21Z</dcterms:created>
  <dc:creator>\]</dc:creator>
  <dc:description/>
  <dc:language>en-US</dc:language>
  <cp:lastModifiedBy>\]</cp:lastModifiedBy>
  <dcterms:modified xsi:type="dcterms:W3CDTF">2008-09-23T20:08:51Z</dcterms:modified>
  <cp:revision>5</cp:revision>
  <dc:subject/>
  <dc:title>America Needs Its Nerds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